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4EB-6E55-4E52-AE0D-99FB1444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AF9-160F-4BA2-8BB7-88DB683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38F-C845-45B2-9C4E-3E740810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0D0-50FC-4CF1-9434-611D70E2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997E-3BF8-42CD-B3A8-23E781DE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535B-DFF6-48F8-B7A9-AC4B78D7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3025-B57D-4AEC-B836-7E7DE456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A645-C4CE-4F28-AE57-C2C983C5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2CAA-A396-47BD-955B-4F1C9189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609D-47B8-4ABB-8737-E466CD8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87F2-B2F0-4862-9D5F-864D8F6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F3B-8B34-42FB-8F62-CA61DA6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2C53-22FD-4C74-B4AA-78294260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D269-257A-4A38-AB94-EA89EE3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2ACB-6073-42F0-A9E9-61A200F5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8390-6577-43DC-9568-D2D1E257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02C4-13DA-48C8-B21F-BE0109BD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F87-55AC-4404-83B9-851A4440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427-79D8-4B17-ABFE-421FBAB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F5B-C8E0-4970-B96B-4B0F585A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DDF-D98D-45FA-9C9E-FEB6CD8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113-D86F-4AF1-B076-78608EF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2F6-C1BE-4773-82F6-12E96B7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77D-4078-4239-943A-5F8FCAF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903-BD6A-4769-ABFE-6597A666C8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8D0-11A9-4640-A82A-0C27900453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360" y="404640"/>
            <a:ext cx="5478480" cy="11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 VI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vale nada que tenga bu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intencio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i bay ojos tan gach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dis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ha de hacerse du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n todo ca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ien celaré mi angust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ólo me de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 amor un alma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riste, apa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¿Viste al que el miedo sobrecog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al ave en sus temo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5280" y="620640"/>
            <a:ext cx="302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0"/>
            <a:ext cx="44136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pecho hi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uando el deseo arrecia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¿Por qué estas an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acaban y no ces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y del coper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sí mi muerte anhel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Vino prep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l corazón dentro se escond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dispara arp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gloria goza con 'Ali Ab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mi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de cumpl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lla el honor real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mis dese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an alas sus bon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is esperan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e logran gracias a señ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que son de luz. fulg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69720" y="762120"/>
            <a:ext cx="346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 su bell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 alba mayor brill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da su g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jor perfume al v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una estr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 guía al peregri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eón que esp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a mala suerte, que a sus  v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lena de miedo cor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9220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1050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050840"/>
            <a:ext cx="574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  adorn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an pronto lo contemp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onor no exi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tanto resplandez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nta, embrujada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h gloria- con sus pren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EN YA SAHHARA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ALBA Q’ESTA KON BEL FOG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KAND BENE BID A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VEN OH HECHIC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UN ALBA QUE TIENE TAN HERMOSO FULG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UANDO VIENE PIDE AM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2:17:25Z</dcterms:created>
  <dc:creator> </dc:creator>
  <dc:description/>
  <dc:language>en-US</dc:language>
  <cp:lastModifiedBy> </cp:lastModifiedBy>
  <dcterms:modified xsi:type="dcterms:W3CDTF">2007-09-29T02:43:49Z</dcterms:modified>
  <cp:revision>5</cp:revision>
  <dc:subject/>
  <dc:title>Diapositiva 1</dc:title>
</cp:coreProperties>
</file>